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C05-915B-4B7D-B4F2-3745AD7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487-F74F-42FB-89F9-C7FA136B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7C4-313C-4044-BEC5-CB960705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71E-FAD5-41D8-9BD6-ED25C07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41C8-C2E4-45A3-A229-F2829F21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420C-CA5D-4885-988B-93AE0A3D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78D-315B-424C-B3CA-E9754DD3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AD4F-AC06-4F68-BC8F-70595EB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9C8A-236C-4F4F-ABFB-69CEB0D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42C0-BC8C-4BB8-B4D0-61667DE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8BD7-06AA-4E7A-A5FE-AA8D039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896-84A2-4F73-AD77-FF2F6A4D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386-A8B0-45E7-BC4E-950CC55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E68-B44D-4640-8C1B-3CF272D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8319-7230-4D77-BAB6-1A7EC69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0DB9-411C-4E23-963D-D3E7C30F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1C3-B0A4-483B-9906-BE1CA970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2C6-5123-450B-B0DB-1B1E426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9C8-3FD9-451D-8333-CB3F1C2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604-31F6-4F36-908D-129166A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163-C3F9-4D18-BFA0-0749689A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1B7-C6D7-42C1-98E7-0825855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AA3-FB9F-48CE-AEEE-E1AEB85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022-C7F2-48F3-8FAE-310F29F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EB9-75AE-4B7B-A19A-5082DCD4006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B62-8427-4BF3-8CF2-98CA4F8F44A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Go Tell The Good News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Journey Begins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5640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Quarter 11, Lesson 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s 13:33-5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ages 74-7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328-9C01-4054-9EC8-7F0A9AEE4B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’s speech consisted of three section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srael’s history led them to the Christ   (vs 17-25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d fulfilled His promises to Israel by raising Jesus from the dead (vs 26-37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 Jesus alone is forgiveness and justification (vs 38-41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C92-52E0-4971-9320-0A62C5580B4F}" type="slidenum">
              <a:t>10</a:t>
            </a:fld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40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chose Israel’s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led them out of Egyp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the land of Cana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judg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a 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om David’s descendants He brought forth a savior,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FDB-1CE1-4533-9AF2-2E5AB67F5696}" type="slidenum">
              <a:t>11</a:t>
            </a:fld>
          </a:p>
        </p:txBody>
      </p:sp>
    </p:spTree>
  </p:cSld>
  <p:transition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40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ish leaders did not accept Jesus as the Christ and killed Him, fulfilling prophec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raised Jesus from the d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all this, God fulfilled His promises to the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6F6-EF13-42A9-82F7-3E21C50BB4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ough Jesus, remission of sins is preach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who believe on Him can be justifi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eware how you hear lest you disbelieve as they did in Habbakuk’s day, and also like their brethren in Judea who rejected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ABE-A739-4A6C-A171-220E9E9675E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mpact of Paul’s Speech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2-43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th Jews and God-fearing Gentiles were in the assembl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he people were excited and asked Paul and Barnabas to speak again the next Sabba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ny of the Jews and devout proselytes followed them, and Paul and Barnabas persuaded them furth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 continue in God’s grace, they needed to believe and obey the message they had hear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841-05DA-479F-9CF7-D13FD9F2F23F}" type="slidenum">
              <a:t>14</a:t>
            </a:fld>
          </a:p>
        </p:txBody>
      </p:sp>
    </p:spTree>
  </p:cSld>
  <p:transition>
    <p:cover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most the whole city came to hear Paul and Barnaba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were filled with jealousy and began blaspheming and contradicting P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rejected the message so Paul and Barnabas turned to the Gent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687-0B2C-4B39-9872-FBBA179A8365}" type="slidenum">
              <a:t>15</a:t>
            </a:fld>
          </a:p>
        </p:txBody>
      </p:sp>
    </p:spTree>
  </p:cSld>
  <p:transition>
    <p:cover dir="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fter this, the Jews stirred up the leaders of the city and had Paul and Barnabas expell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brushed the dust off their feet against them and moved on to Iconium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 those who had been converted were filled with joy and the Holy Spir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933-E798-46C8-B660-BEA88876D4DA}" type="slidenum">
              <a:t>16</a:t>
            </a:fld>
          </a:p>
        </p:txBody>
      </p:sp>
    </p:spTree>
  </p:cSld>
  <p:transition>
    <p:diamond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Gentiles rejoiced at the hope of salvation and the word of God spr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told the Jews that they had judged themselves unworthy of eternal lif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dded “this is what the Lord commanded us when He said ‘I have set you for a light to the Gentiles that you may bring salvation to the ends of the earth’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1CB-72E0-49DF-A789-327E7AD7858C}" type="slidenum">
              <a:t>17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rst, let’s review the end of the last lesson..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...the beginning of the first missionary journey by Barnabas and Paul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6A2-ECAA-455C-A83E-33A883087C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-3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five men who worked as prophets and teachers at Antioch - Barnabas, Simeon, Lucius, Manaen, and S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naen was a childhood companion of Herod Antipas who beheaded John the Baptist and who Jesus appeared before during His tria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Holy Spirit said, “Separate to me Barnabas and Saul for the work to which I have called them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D7F-E6B8-4362-BAD2-4C54E78557C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-5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4678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uided by the Holy Spirit, Barnabas and Saul went down to Selucia, and from there sailed to Cypr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s chief cities were Salamis and Paphos - on opposite ends of the islan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Salamis, they preached the word of God to the Jews having John Mark as a helper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A8F-9903-436D-913C-F61424B3B38E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6-8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2320" y="159840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t Paphos, they found a sorcerer, a false prophet, a Jew, named Bar-Jesus (also, Elymas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ar-Jesus had attached himself to Sergius Paulus, proconsul of the islan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rgius Paulus was an intelligent man who called for Barnabas and Saul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ar-Jesus withstood them, trying to turn the proconsul away from the faith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DAE-9777-4C48-B74D-AFE3498E5F31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9-1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3915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aul, hereafter called Paul,  filled with the Holy Spirit, looked intently at him and said: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 full of all deceit and fraud, you son of the devil, you enemy of all righteousness, will you not cease perverting the right ways of God?”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mmediately a dark mist fell on him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n the proconsul believed, being astonished at the teaching of the Lor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694-5F02-498E-9823-C0F4ED176B1E}" type="slidenum">
              <a:t>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248520" y="4038480"/>
            <a:ext cx="1143000" cy="533520"/>
          </a:xfrm>
          <a:prstGeom prst="ellipse">
            <a:avLst/>
          </a:prstGeom>
          <a:noFill/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702-9205-4BF2-8491-03F3D5D0D4A1}" type="slidenum">
              <a:t>7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77778E-007 -4.81481E-006 C 0.01302 0.00556 0.0257 0.01158 0.03872 0.01713 C 0.03889 0.01713 0.0507 0.02246 0.0533 0.02361 C 0.05643 0.025 0.06285 0.02801 0.06285 0.02801 C 0.06337 0.0301 0.06407 0.03241 0.06459 0.03449 C 0.06563 0.03866 0.06771 0.04722 0.06771 0.04722 C 0.06667 0.05371 0.06459 0.06667 0.06459 0.06667 E">
                                      <p:cBhvr>
                                        <p:cTn id="13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6459 0.0669 C 0.05504 0.07523 0.04983 0.08634 0.04132 0.09629 C 0.03872 0.10717 0.04219 0.09745 0.03542 0.10555 C 0.02431 0.11852 0.04063 0.10416 0.02761 0.11481 C 0.01754 0.13333 -0.00555 0.15046 -0.02291 0.15717 C -0.03055 0.16342 -0.03889 0.1662 -0.04757 0.16852 C -0.05277 0.16967 -0.05659 0.17407 -0.06128 0.17592 C -0.07413 0.18009 -0.08958 0.18148 -0.10277 0.18333 C -0.11302 0.18194 -0.12343 0.18148 -0.1335 0.17963 C -0.14045 0.17824 -0.14357 0.16921 -0.15034 0.16643 C -0.15538 0.1625 -0.16007 0.16342 -0.1625 0.15717 E">
                                      <p:cBhvr>
                                        <p:cTn id="137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17083 0.16597 C -0.17309 0.16875 -0.17517 0.17153 -0.17743 0.17453 C -0.18125 0.17986 -0.17899 0.1875 -0.18055 0.19375 C -0.18125 0.19768 -0.18697 0.20833 -0.1901 0.21134 C -0.19305 0.21412 -0.19722 0.21551 -0.20104 0.21713 C -0.20416 0.21852 -0.21059 0.22014 -0.21059 0.22014 C -0.21631 0.22361 -0.2217 0.22407 -0.22812 0.22592 C -0.23836 0.22523 -0.26753 0.23264 -0.26753 0.21574 E">
                                      <p:cBhvr>
                                        <p:cTn id="140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86200" y="5638680"/>
            <a:ext cx="1066680" cy="381240"/>
          </a:xfrm>
          <a:prstGeom prst="ellipse">
            <a:avLst/>
          </a:prstGeom>
          <a:noFill/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5BA-ECDD-40DB-A7DB-E8D739658EFD}" type="slidenum">
              <a:t>8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8.33333E-007 -3.7037E-007 C -0.00938 -0.01643 -0.02587 -0.01898 -0.03872 -0.03009 C -0.04671 -0.04606 -0.04271 -0.03889 -0.05 -0.05162 C -0.05243 -0.06134 -0.05712 -0.06898 -0.06129 -0.07731 C -0.06424 -0.0831 -0.06476 -0.09074 -0.06771 -0.09676 C -0.06719 -0.12824 -0.06737 -0.15995 -0.06615 -0.19143 C -0.06493 -0.22477 -0.06007 -0.25926 -0.05816 -0.29259 C -0.0573 -0.30833 -0.05834 -0.31852 -0.04844 -0.32685 C -0.04688 -0.32963 -0.04601 -0.33403 -0.04358 -0.33542 C -0.03889 -0.33819 -0.0323 -0.33032 -0.0323 -0.32477 E">
                                      <p:cBhvr>
                                        <p:cTn id="1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323 -0.32476 C -0.02761 -0.35046 -0.02344 -0.37615 -0.02101 -0.40231 C -0.02206 -0.42014 -0.0224 -0.43819 -0.02431 -0.45601 C -0.02466 -0.45995 -0.03334 -0.47731 -0.03386 -0.47754 C -0.04219 -0.4831 -0.03837 -0.48009 -0.04532 -0.48611 C -0.05331 -0.50833 -0.04237 -0.4824 -0.05487 -0.49907 C -0.05608 -0.50069 -0.05539 -0.50393 -0.0566 -0.50555 C -0.05834 -0.50787 -0.06094 -0.50833 -0.06303 -0.50972 C -0.06407 -0.5118 -0.06615 -0.5162 -0.06615 -0.5162 E">
                                      <p:cBhvr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 Antioch of Pisidia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3-15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his companions sailed north from Cyprus to Perg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John Mark returns to Jerusale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rk “…went not with them to the work”  (Acts 15:38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travel on to Antioch of Pisidi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y are there invited to speak in the synagogu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C5B-EBDC-4CD0-950F-4DADDDF06CF9}" type="slidenum">
              <a:t>9</a:t>
            </a:fld>
          </a:p>
        </p:txBody>
      </p:sp>
    </p:spTree>
  </p:cSld>
  <p:transition>
    <p:checker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58:51Z</dcterms:created>
  <dc:creator>billy lauderdale</dc:creator>
  <dc:description/>
  <dc:language>en-US</dc:language>
  <cp:lastModifiedBy>Frank D Vines</cp:lastModifiedBy>
  <dcterms:modified xsi:type="dcterms:W3CDTF">2007-02-21T21:03:58Z</dcterms:modified>
  <cp:revision>30</cp:revision>
  <dc:subject/>
  <dc:title>Go Tell The Good News “The Journey Begins”</dc:title>
</cp:coreProperties>
</file>